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8DA-3CD4-4156-A9D3-66248996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17A-4CBE-4270-9BDC-19882731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40E-1FA5-4774-BD3E-A5DFA077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DA2-CF80-4610-8434-6E2ED678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D97-BDC1-42A0-AC8B-EDD4D44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99C-5A6A-4749-8B05-8D05D6F5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91E-20A6-4215-BE2F-937B4F39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6E5-A7D8-41B6-B041-441461C0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710-FF3A-46F8-9000-2A10E5B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7F4-3944-46AA-99AE-0E3CA48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2AB-5E63-44F8-85FC-E81F796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DF8-5222-403B-8B80-7612A82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8D20-21BD-42E5-9235-BEE61BC3D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idaho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8680" y="487692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4876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                      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762120"/>
            <a:ext cx="7162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daho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029200" y="228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6477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5228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7/2010, www.50states.com/Ida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ame: Id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B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1,293,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 July 3,1890 4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It is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Gem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Syr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Mountain Blue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Here we have Id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an Apache name of uncertain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1996920" cy="216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0" y="5326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ds Idaho is famous for are potatoes, wheat, sugar beets, cattle and muc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ewelry there known for is Garnets which can be made into braclets, necklaces, rings, and pend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Idaho: Map and State Flag"/>
          <p:cNvPicPr/>
          <p:nvPr/>
        </p:nvPicPr>
        <p:blipFill>
          <a:blip r:embed="rId1"/>
          <a:srcRect l="0" t="0" r="0" b="68426"/>
          <a:stretch/>
        </p:blipFill>
        <p:spPr>
          <a:xfrm>
            <a:off x="457200" y="3808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daho: Map and State Flag"/>
          <p:cNvPicPr/>
          <p:nvPr/>
        </p:nvPicPr>
        <p:blipFill>
          <a:blip r:embed="rId2"/>
          <a:srcRect l="13668" t="35856" r="11114" b="0"/>
          <a:stretch/>
        </p:blipFill>
        <p:spPr>
          <a:xfrm>
            <a:off x="5181480" y="152280"/>
            <a:ext cx="3505320" cy="396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518148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Idah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2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idah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267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line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All images Copyright © 1997 - 2000 WriteLine. All Rights Reserved. marble columns of rotunda"/>
          <p:cNvPicPr/>
          <p:nvPr/>
        </p:nvPicPr>
        <p:blipFill>
          <a:blip r:embed="rId1"/>
          <a:stretch/>
        </p:blipFill>
        <p:spPr>
          <a:xfrm>
            <a:off x="0" y="0"/>
            <a:ext cx="4343400" cy="311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All images Copyright © 1997 - 2000 WriteLine. All Rights Reserved. historic western town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200400"/>
            <a:ext cx="4191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ise Idah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http://www.postcardsfrom.com/t1/98102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3526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3200400"/>
            <a:ext cx="4724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 C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http://www.postcardsfrom.com/t1/98102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Copyright © 1998 WriteLine. All Rights Reserved. Syringa flower stamp"/>
          <p:cNvPicPr/>
          <p:nvPr/>
        </p:nvPicPr>
        <p:blipFill>
          <a:blip r:embed="rId3"/>
          <a:stretch/>
        </p:blipFill>
        <p:spPr>
          <a:xfrm>
            <a:off x="0" y="4667400"/>
            <a:ext cx="1847880" cy="219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apital of Boise, Ida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608600">
            <a:off x="5563440" y="9136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a tiny town of Idah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4876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ow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5410080"/>
            <a:ext cx="3886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flower Syrin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3/2010,  http://www.postcardsfrom.com/stamp/stamp-i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19Z</dcterms:created>
  <dc:creator>install</dc:creator>
  <dc:description/>
  <dc:language>en-US</dc:language>
  <cp:lastModifiedBy>install</cp:lastModifiedBy>
  <dcterms:modified xsi:type="dcterms:W3CDTF">2010-10-14T15:21:17Z</dcterms:modified>
  <cp:revision>13</cp:revision>
  <dc:subject/>
  <dc:title>Slide 1</dc:title>
</cp:coreProperties>
</file>